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07EE-7BE8-4422-9058-7F4E35240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going to read a chapter called The Night of Broken G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going to show you pictures.  Would can you conclude from these pictur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photos shown, I can conclude 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ded – not going to their Jewish neighbors with businesses.  Much of the population of Germany didn’t seem terribly upset.  Some people are concerned but others are nonchalan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this increase their comprehension before they read?  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vehicles to give background knowled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7488-3EFC-48E0-95DA-8A5E4138A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EBC3-C57D-4DE3-860E-AC9BB37A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771D-882A-4C82-904B-D21F954C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CB59-3CFD-456D-8AA6-D04A30A3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D5AD-C6A1-4DE2-8B8A-D7451564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CE44-BD57-4C01-8CD1-2CC7B341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0DFF-1832-4442-8376-A1CDC2AD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3B5E-DF21-4AEA-AD78-A436B4AA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C6D4-2ADF-473B-82D0-949CB809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39F4-253D-4B56-9392-FF3C576D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6F20-848D-4465-B2CE-FF62C806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189F-661A-4FD7-A239-9872FE59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9B4A-8BE9-4B5A-A3B3-E6049FE0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7462-04BE-4200-9092-B36F9F186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ight of Broken Gla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se slides were used to establish background knowledge for a chapter in </a:t>
            </a: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llel Journeys</a:t>
            </a: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ents  were shown the slides and asked to reach conclusions based on the cont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ita L. Archer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ight of Broken G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kristallnacht1_1110849c"/>
          <p:cNvPicPr/>
          <p:nvPr/>
        </p:nvPicPr>
        <p:blipFill>
          <a:blip r:embed="rId1"/>
          <a:stretch/>
        </p:blipFill>
        <p:spPr>
          <a:xfrm>
            <a:off x="1284120" y="1981080"/>
            <a:ext cx="6573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ight of Broken G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brokewin"/>
          <p:cNvPicPr/>
          <p:nvPr/>
        </p:nvPicPr>
        <p:blipFill>
          <a:blip r:embed="rId1"/>
          <a:stretch/>
        </p:blipFill>
        <p:spPr>
          <a:xfrm>
            <a:off x="2019240" y="1981080"/>
            <a:ext cx="510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ight of Broken G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kristallnacht,+store+berlin+2"/>
          <p:cNvPicPr/>
          <p:nvPr/>
        </p:nvPicPr>
        <p:blipFill>
          <a:blip r:embed="rId1"/>
          <a:stretch/>
        </p:blipFill>
        <p:spPr>
          <a:xfrm>
            <a:off x="1865160" y="1981080"/>
            <a:ext cx="541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ight of Broken G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08lede_kristallnacht-blogSpan"/>
          <p:cNvPicPr/>
          <p:nvPr/>
        </p:nvPicPr>
        <p:blipFill>
          <a:blip r:embed="rId1"/>
          <a:stretch/>
        </p:blipFill>
        <p:spPr>
          <a:xfrm>
            <a:off x="1446120" y="1981080"/>
            <a:ext cx="6249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ight of Broken G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photo01"/>
          <p:cNvPicPr/>
          <p:nvPr/>
        </p:nvPicPr>
        <p:blipFill>
          <a:blip r:embed="rId1"/>
          <a:stretch/>
        </p:blipFill>
        <p:spPr>
          <a:xfrm>
            <a:off x="1592280" y="1981080"/>
            <a:ext cx="5958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12:14:38Z</dcterms:created>
  <dc:creator>Archer Anita</dc:creator>
  <dc:description/>
  <dc:language>en-US</dc:language>
  <cp:lastModifiedBy>Becky Brandl</cp:lastModifiedBy>
  <dcterms:modified xsi:type="dcterms:W3CDTF">2012-07-20T18:09:26Z</dcterms:modified>
  <cp:revision>3</cp:revision>
  <dc:subject/>
  <dc:title>The Night of Broken Glass</dc:title>
</cp:coreProperties>
</file>